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71E1-382A-4625-B4B2-B6745D60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lickbiology.com/igcse-plant-reproduction-powerpoint-presentation-workshee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38/flow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plants/plantclassification/section2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xtremepapers.com/revision/gcse/biology/reprodu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2geneticswikib.wikispaces.com/Sexual+and+Asexual+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A/AsexualReprodu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269-21C2-4D9F-8E2F-884FC60B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2CC-5B4E-45DC-9280-63D959D6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F69-18CD-41D9-96B4-612432CD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CCF-FA2C-445C-BB0C-87A961EC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935-D123-4D9A-A218-847DFD33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492-EE76-4F27-ABB6-6CA17A0A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1A6-B6E9-4CE9-AFBE-48E39114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AEF-F91D-46C2-8646-5BFB0BCD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A4B-BD86-4C64-9274-080D607E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768-A1D0-4318-B0D6-DC8489B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68F-C217-48FB-8A1F-1C28904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091-EF98-4EF1-A8F3-DF41FD8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6755-71E4-487C-8DCC-323E60ECD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63800" y="1828800"/>
            <a:ext cx="521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pollination vs. self-poll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vegetative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stems, leaves, or roots t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3720" y="609480"/>
            <a:ext cx="775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554120"/>
            <a:ext cx="77724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rent plan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less energy &amp;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rental traits are well-suited to environment, offspring will also be well-s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lets survive better than seedlings from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genetic divers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ntire population being wi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interven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tt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produce new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f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ranches of trees onto other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ssue cul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reproduce orchi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32120" y="609480"/>
            <a:ext cx="527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inclu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genet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are able to be dispersed from parent plant (less compet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can remain dormant until conditions become favo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01:20:23Z</dcterms:created>
  <dc:creator>rubina khan</dc:creator>
  <dc:description/>
  <dc:language>en-US</dc:language>
  <cp:lastModifiedBy>rubina khan</cp:lastModifiedBy>
  <dcterms:modified xsi:type="dcterms:W3CDTF">2013-06-04T01:52:37Z</dcterms:modified>
  <cp:revision>29</cp:revision>
  <dc:subject/>
  <dc:title>Plant Reproduction</dc:title>
</cp:coreProperties>
</file>